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669-F724-411F-9A3C-4585FF8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40A-27D7-48AF-96C5-C171CEE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675-2BBC-4D90-9444-3E6AC08D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999-81B2-40FC-A405-E888DEA3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778-9C56-4537-9FC4-54901094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F80-4592-494B-B440-ACB620D4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89C-0339-43D1-8F96-DA7E919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025-F1F8-4F46-992F-1D50C94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295-4058-4000-9FF3-0810D12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50E-1338-4883-80CC-F009229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6EC-BAAE-4AE0-A2B5-DC9103A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254-176A-4CC5-9ED2-164A98CF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F87-CDA2-46F5-88DD-C07BCE3D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2:55:37Z</dcterms:created>
  <dc:creator>backup</dc:creator>
  <dc:description/>
  <dc:language>en-US</dc:language>
  <cp:lastModifiedBy>backup</cp:lastModifiedBy>
  <dcterms:modified xsi:type="dcterms:W3CDTF">2009-03-01T12:57:51Z</dcterms:modified>
  <cp:revision>1</cp:revision>
  <dc:subject/>
  <dc:title>Slide 1</dc:title>
</cp:coreProperties>
</file>